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jpeg" ContentType="image/jpeg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3.jpeg" ContentType="image/jpeg"/>
  <Override PartName="/ppt/media/image26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20.gif" ContentType="image/gif"/>
  <Override PartName="/ppt/media/image23.png" ContentType="image/png"/>
  <Override PartName="/ppt/media/image19.wmf" ContentType="image/x-wmf"/>
  <Override PartName="/ppt/media/image18.png" ContentType="image/png"/>
  <Override PartName="/ppt/media/image16.wmf" ContentType="image/x-wmf"/>
  <Override PartName="/ppt/media/image14.png" ContentType="image/png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D5C-657E-4644-BE4E-CBFEDD69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915-F7D4-4B8F-A149-9BA9BD20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EC1-AE51-409B-9272-1D40FCFC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BAA-9692-447B-B13D-84C35BB7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7009-E7D2-4AF6-9EBF-7F11BC7B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EEF1-0672-42B2-A523-83752398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5851-F8DA-41AE-BD77-7C4EEEC5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EA43-C4D3-4CB9-BF6F-97CC321F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F8F3-60D4-4A55-9E2B-394347D2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76C2-5E1A-4D87-8C33-3741A00B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E2F5-C005-47AE-B8E0-8470344D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A2A-7C97-4DDF-BBC7-0A2A53D1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D56F-6C2D-424E-9373-C6E9CE74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73AB-94B0-4743-B209-3FD75F6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897C-FA64-4F15-BBC6-8A4A5955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4380-D7E7-4986-ABAB-B6214229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2AEE-0939-4FE4-9682-E74D030F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D56-AE2E-4ADB-A6DC-09DFAA4F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2FF-8A2B-4A60-B346-394AC1A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20D-A8AA-4A5F-8C11-B3EB4A4B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BC5-701B-4B21-B78B-FF24FAFB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884-12DC-4656-8C9E-BFE3C4A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1A8-2D8C-4467-89C0-B9D0A1CB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D71-4C83-4EFA-BC2E-8F709AC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12B-C6F3-455E-9764-13AEE2BCEF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989C-C62A-44B4-B2E0-20A4432A91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hyperlink" Target="http://bioactive.mrkirkscience.com/02/ch2c4.html" TargetMode="External"/><Relationship Id="rId5" Type="http://schemas.openxmlformats.org/officeDocument/2006/relationships/hyperlink" Target="http://bioactive.mrkirkscience.com/02/ch2quiz.html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NzgPNpQkno" TargetMode="External"/><Relationship Id="rId2" Type="http://schemas.openxmlformats.org/officeDocument/2006/relationships/hyperlink" Target="http://www.youtube.com/watch?v=3NzgPNpQkno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NBzyM6TcK8&amp;feature=related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llustrationsof.com/royalty-free-scientist-clipart-illustration-1136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1.bp.blogspot.com/_pZiQ7CGinlM/S_DcpKTewaI/AAAAAAAAB8M/APuiz9Z4b-Q/s1600/Structure_of_Water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qjcCvzWwww&amp;NR=1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olecular Compounds &amp; Intermolecular Fo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sented b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ennifer Ferrari &amp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etya Pis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2: van der Waals fo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d map of types of bonds to be discussed with whole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) Jigsaw activity for readings pgs. 109 – 112 in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) Computer Research for further and current knowled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) Presentations to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C:\Documents and Settings\pisanpet\Local Settings\Temporary Internet Files\Content.IE5\GBNYJVLT\MC900200263[1].wmf"/>
          <p:cNvPicPr/>
          <p:nvPr/>
        </p:nvPicPr>
        <p:blipFill>
          <a:blip r:embed="rId1"/>
          <a:stretch/>
        </p:blipFill>
        <p:spPr>
          <a:xfrm>
            <a:off x="5435640" y="2852640"/>
            <a:ext cx="1819080" cy="7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Documents and Settings\pisanpet\Local Settings\Temporary Internet Files\Content.IE5\GBNYJVLT\MC900441728[1].png"/>
          <p:cNvPicPr/>
          <p:nvPr/>
        </p:nvPicPr>
        <p:blipFill>
          <a:blip r:embed="rId2"/>
          <a:stretch/>
        </p:blipFill>
        <p:spPr>
          <a:xfrm>
            <a:off x="3132000" y="3573360"/>
            <a:ext cx="155592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Program Files\Microsoft Office\MEDIA\CAGCAT10\j0285750.wmf"/>
          <p:cNvPicPr/>
          <p:nvPr/>
        </p:nvPicPr>
        <p:blipFill>
          <a:blip r:embed="rId3"/>
          <a:stretch/>
        </p:blipFill>
        <p:spPr>
          <a:xfrm>
            <a:off x="7667640" y="5157720"/>
            <a:ext cx="129708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3: Hydrogen Bonding in everyday li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000" y="2421000"/>
            <a:ext cx="81262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eacher Demonst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LI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IQUI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GAS vap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C:\Documents and Settings\pisanpet\Local Settings\Temporary Internet Files\Content.IE5\P9OV6DIH\MP900446767[1].jpg"/>
          <p:cNvPicPr/>
          <p:nvPr/>
        </p:nvPicPr>
        <p:blipFill>
          <a:blip r:embed="rId1"/>
          <a:stretch/>
        </p:blipFill>
        <p:spPr>
          <a:xfrm>
            <a:off x="971640" y="3357720"/>
            <a:ext cx="1419120" cy="122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Documents and Settings\pisanpet\Local Settings\Temporary Internet Files\Content.IE5\P9OV6DIH\MC900441750[1].png"/>
          <p:cNvPicPr/>
          <p:nvPr/>
        </p:nvPicPr>
        <p:blipFill>
          <a:blip r:embed="rId2"/>
          <a:stretch/>
        </p:blipFill>
        <p:spPr>
          <a:xfrm>
            <a:off x="3492360" y="3357720"/>
            <a:ext cx="1511280" cy="1442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Documents and Settings\pisanpet\Local Settings\Temporary Internet Files\Content.IE5\GBNYJVLT\MC900196458[1].wmf"/>
          <p:cNvPicPr/>
          <p:nvPr/>
        </p:nvPicPr>
        <p:blipFill>
          <a:blip r:embed="rId3"/>
          <a:stretch/>
        </p:blipFill>
        <p:spPr>
          <a:xfrm>
            <a:off x="6516720" y="3429000"/>
            <a:ext cx="1817640" cy="1079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684360" y="4869000"/>
            <a:ext cx="8126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lease view the Animation on hydrogen bonding to show you the science behind the teacher demonstration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://bioactive.mrkirkscience.com/02/ch2c4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55640" y="5850000"/>
            <a:ext cx="7981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tudents are to do the Tutorial Quiz for evaluation purposes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http://bioactive.mrkirkscience.com/02/ch2quiz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Y THE QUIZ OUT TO SEE IF YOU CAN BEAT YOUR STUDENTS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2484360" y="3645000"/>
            <a:ext cx="1008720" cy="2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37" name="Straight Arrow Connector 13"/>
          <p:cNvCxnSpPr/>
          <p:nvPr/>
        </p:nvCxnSpPr>
        <p:spPr>
          <a:xfrm>
            <a:off x="5219640" y="3645000"/>
            <a:ext cx="1008720" cy="2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arrow" w="med"/>
          </a:ln>
        </p:spPr>
      </p:cxnSp>
      <p:sp>
        <p:nvSpPr>
          <p:cNvPr id="138" name="TextBox 14"/>
          <p:cNvSpPr/>
          <p:nvPr/>
        </p:nvSpPr>
        <p:spPr>
          <a:xfrm>
            <a:off x="2411280" y="386064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ussion of inter molecular bonds during this convers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4859280" y="3933720"/>
            <a:ext cx="172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ussion of inter molecular bonds during this convers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4 –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ystery Scene Investigation: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ploratory Lab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how clip of CSI to engage the students and prepare them for the la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youtube.com/watch?v=3NzgPNpQk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4" descr="C:\Documents and Settings\pisanpet\Local Settings\Temporary Internet Files\Content.IE5\P9OV6DIH\MC900431629[1].png"/>
          <p:cNvPicPr/>
          <p:nvPr/>
        </p:nvPicPr>
        <p:blipFill>
          <a:blip r:embed="rId3"/>
          <a:stretch/>
        </p:blipFill>
        <p:spPr>
          <a:xfrm>
            <a:off x="7429680" y="18900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755640" y="3141720"/>
            <a:ext cx="82803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udents divided in to groups of 2 or 3 and give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nknown powders and liquid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which will be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owders: salt, sugar, baking soda,  liquids: oil, water, vinegar, salad dress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URPOSE of Exploratory Lab Investigatio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Students are to desig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by Step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cedure for determining the type of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molecular bonding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at exists in the unknown substances found at a crime scene at a party they had recently attended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y will need to test for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lting point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oiling poi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C:\Documents and Settings\pisanpet\Local Settings\Temporary Internet Files\Content.IE5\GBNYJVLT\MC900054757[1].wmf"/>
          <p:cNvPicPr/>
          <p:nvPr/>
        </p:nvPicPr>
        <p:blipFill>
          <a:blip r:embed="rId4"/>
          <a:stretch/>
        </p:blipFill>
        <p:spPr>
          <a:xfrm>
            <a:off x="7451640" y="5229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826920" y="6504120"/>
            <a:ext cx="8317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acher to ask questions relating to results after the lab is completed 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48080" y="900360"/>
            <a:ext cx="808128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5 :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ass Debate over which Intermolecular force is most used in daily life </a:t>
            </a:r>
            <a:br>
              <a:rPr sz="28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see summary handout for details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280" y="2204640"/>
            <a:ext cx="35290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Van der Wa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6" descr="C:\Documents and Settings\pisanpet\Local Settings\Temporary Internet Files\Content.IE5\WS8AY8H6\MC900089128[1].wmf"/>
          <p:cNvPicPr/>
          <p:nvPr/>
        </p:nvPicPr>
        <p:blipFill>
          <a:blip r:embed="rId1"/>
          <a:stretch/>
        </p:blipFill>
        <p:spPr>
          <a:xfrm>
            <a:off x="3708360" y="1557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5435640" y="2205000"/>
            <a:ext cx="345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ydrogen Bo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627280" y="278136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) Introduce Rules of condu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258920" y="3141720"/>
            <a:ext cx="7489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) Discuss necessary theories and                    to be deb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258920" y="3573360"/>
            <a:ext cx="7885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vide the class into group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an der walls forces group: London Dispersion forces &amp; Dipole-dipole for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ydrogen bonding group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udience (no more than 5) 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udges (3) 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bate organizer (1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nly           person talks at a tim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bate opens with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Debate Organizer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llowed by 3 Jud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863640" y="5877000"/>
            <a:ext cx="8280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nner is the group that accumulates the most points given by teacher in the checklist at the beginning of the unit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C:\Documents and Settings\pisanpet\Local Settings\Temporary Internet Files\Content.IE5\P9OV6DIH\MC900199250[1].wmf"/>
          <p:cNvPicPr/>
          <p:nvPr/>
        </p:nvPicPr>
        <p:blipFill>
          <a:blip r:embed="rId2"/>
          <a:stretch/>
        </p:blipFill>
        <p:spPr>
          <a:xfrm>
            <a:off x="0" y="5342040"/>
            <a:ext cx="1027080" cy="1515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pisanpet\Local Settings\Temporary Internet Files\Content.IE5\GBNYJVLT\MC900434726[1].png"/>
          <p:cNvPicPr/>
          <p:nvPr/>
        </p:nvPicPr>
        <p:blipFill>
          <a:blip r:embed="rId3"/>
          <a:stretch/>
        </p:blipFill>
        <p:spPr>
          <a:xfrm>
            <a:off x="3851280" y="4869000"/>
            <a:ext cx="865080" cy="50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pisanpet\Local Settings\Temporary Internet Files\Content.IE5\P9OV6DIH\MC900199251[1].wmf"/>
          <p:cNvPicPr/>
          <p:nvPr/>
        </p:nvPicPr>
        <p:blipFill>
          <a:blip r:embed="rId4"/>
          <a:stretch/>
        </p:blipFill>
        <p:spPr>
          <a:xfrm>
            <a:off x="8101080" y="5300640"/>
            <a:ext cx="792000" cy="44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Documents and Settings\pisanpet\Local Settings\Temporary Internet Files\Content.IE5\P9OV6DIH\MC900199251[1].wmf"/>
          <p:cNvPicPr/>
          <p:nvPr/>
        </p:nvPicPr>
        <p:blipFill>
          <a:blip r:embed="rId5"/>
          <a:stretch/>
        </p:blipFill>
        <p:spPr>
          <a:xfrm>
            <a:off x="7956720" y="4797360"/>
            <a:ext cx="792000" cy="52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C:\Documents and Settings\pisanpet\Local Settings\Temporary Internet Files\Content.IE5\P9OV6DIH\MC900199251[1].wmf"/>
          <p:cNvPicPr/>
          <p:nvPr/>
        </p:nvPicPr>
        <p:blipFill>
          <a:blip r:embed="rId6"/>
          <a:stretch/>
        </p:blipFill>
        <p:spPr>
          <a:xfrm>
            <a:off x="7093080" y="4724280"/>
            <a:ext cx="792000" cy="59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Documents and Settings\pisanpet\Local Settings\Temporary Internet Files\Content.IE5\P9OV6DIH\MM900254500[1].gif"/>
          <p:cNvPicPr/>
          <p:nvPr/>
        </p:nvPicPr>
        <p:blipFill>
          <a:blip r:embed="rId7"/>
          <a:stretch/>
        </p:blipFill>
        <p:spPr>
          <a:xfrm>
            <a:off x="5651640" y="3068640"/>
            <a:ext cx="4492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pplemental Visual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2362320"/>
            <a:ext cx="38052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12" descr="151ionic"/>
          <p:cNvPicPr/>
          <p:nvPr/>
        </p:nvPicPr>
        <p:blipFill>
          <a:blip r:embed="rId1"/>
          <a:stretch/>
        </p:blipFill>
        <p:spPr>
          <a:xfrm>
            <a:off x="1187280" y="2421000"/>
            <a:ext cx="3238560" cy="364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60dipole"/>
          <p:cNvPicPr/>
          <p:nvPr/>
        </p:nvPicPr>
        <p:blipFill>
          <a:blip r:embed="rId2"/>
          <a:stretch/>
        </p:blipFill>
        <p:spPr>
          <a:xfrm>
            <a:off x="4788000" y="2421000"/>
            <a:ext cx="3771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pplemental Visuals cont’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8" descr="160hbondwater"/>
          <p:cNvPicPr/>
          <p:nvPr/>
        </p:nvPicPr>
        <p:blipFill>
          <a:blip r:embed="rId1"/>
          <a:stretch/>
        </p:blipFill>
        <p:spPr>
          <a:xfrm>
            <a:off x="826920" y="2349360"/>
            <a:ext cx="3770640" cy="395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160inducedipole"/>
          <p:cNvPicPr/>
          <p:nvPr/>
        </p:nvPicPr>
        <p:blipFill>
          <a:blip r:embed="rId2"/>
          <a:stretch/>
        </p:blipFill>
        <p:spPr>
          <a:xfrm>
            <a:off x="4788000" y="2349360"/>
            <a:ext cx="3701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sconcep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 – Spatial &amp; Kinesthetic learners may have difficul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solution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could be addressed by using hands-on laboratories, role-play skits and moving around activit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will have difficulties with abstract ide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solution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ew videos, demonstrations, 3d mode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al needs and Exceptional learn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solution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just and modify lessons according to IEP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4" descr="C:\Documents and Settings\pisanpet\Local Settings\Temporary Internet Files\Content.IE5\WS8AY8H6\MC900078714[1].wmf"/>
          <p:cNvPicPr/>
          <p:nvPr/>
        </p:nvPicPr>
        <p:blipFill>
          <a:blip r:embed="rId1"/>
          <a:stretch/>
        </p:blipFill>
        <p:spPr>
          <a:xfrm>
            <a:off x="5219640" y="115920"/>
            <a:ext cx="1368360" cy="151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Documents and Settings\pisanpet\Local Settings\Temporary Internet Files\Content.IE5\GBNYJVLT\MC900078743[1].wmf"/>
          <p:cNvPicPr/>
          <p:nvPr/>
        </p:nvPicPr>
        <p:blipFill>
          <a:blip r:embed="rId2"/>
          <a:stretch/>
        </p:blipFill>
        <p:spPr>
          <a:xfrm>
            <a:off x="468360" y="3284640"/>
            <a:ext cx="753840" cy="865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C:\Documents and Settings\pisanpet\Local Settings\Temporary Internet Files\Content.IE5\GBNYJVLT\MC900078743[1].wmf"/>
          <p:cNvPicPr/>
          <p:nvPr/>
        </p:nvPicPr>
        <p:blipFill>
          <a:blip r:embed="rId3"/>
          <a:stretch/>
        </p:blipFill>
        <p:spPr>
          <a:xfrm>
            <a:off x="539640" y="4869000"/>
            <a:ext cx="755640" cy="86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Documents and Settings\pisanpet\Local Settings\Temporary Internet Files\Content.IE5\GBNYJVLT\MC900078743[1].wmf"/>
          <p:cNvPicPr/>
          <p:nvPr/>
        </p:nvPicPr>
        <p:blipFill>
          <a:blip r:embed="rId4"/>
          <a:stretch/>
        </p:blipFill>
        <p:spPr>
          <a:xfrm>
            <a:off x="468360" y="5994360"/>
            <a:ext cx="7538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) Hydrogen Bonding UR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bioactive.mrkirkscience.com/02/ch2c4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) Ionic vs. Covalent Bond vide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youtube.com/watch?v=QqjcCvzWwww&amp;NR=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3)Ministry Docu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ed.gov.nl.ca/edu/k12/curriculum/guides/science/chem2202/unit2.pd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edu.gov.on.ca/eng/curriculum/secondary/2009science11_12.pd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angelo.edu/faculty/kboudrea/index/Notes_Chapter_11.pd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4)Haberer et. al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Chemistry 11.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elson Education. 2011.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5)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CSI to engage the students and prepare them for the la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youtube.com/watch?v=3NzgPNpQkno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nk you for taking the time to view our presentation!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ening Activity-What do you already know about Chemical Bonding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hink-Pair Sha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operative Learning Activit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a blank piece of paper, write down 5 key concepts that you remember about Chemical Bonding. Share and compare your points with a partn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alent Bonds vs. Ionic Bo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that we have your brain exercised on this topic, look at the picture below and see if you remember the difference between a covalent bond and an ionic bon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slides59"/>
          <p:cNvPicPr/>
          <p:nvPr/>
        </p:nvPicPr>
        <p:blipFill>
          <a:blip r:embed="rId1"/>
          <a:stretch/>
        </p:blipFill>
        <p:spPr>
          <a:xfrm>
            <a:off x="4716360" y="2421000"/>
            <a:ext cx="442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ve a look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’s a catchy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usic vide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help stimulate your memory and prior knowledge of chemical bonding….ENJOY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oNBzyM6TcK8&amp;feature=rel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Hint: This would be an excellent hook to any lesson on chemical bond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re we go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8" descr="Royalty-Free (RF) Scientist Clipart Illustration by Geo Images - Stock Sample #113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97640" y="2492280"/>
            <a:ext cx="3546360" cy="37242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"/>
          <p:cNvSpPr/>
          <p:nvPr/>
        </p:nvSpPr>
        <p:spPr>
          <a:xfrm>
            <a:off x="900000" y="2492280"/>
            <a:ext cx="3384720" cy="2592360"/>
          </a:xfrm>
          <a:prstGeom prst="wedgeRoundRectCallout">
            <a:avLst>
              <a:gd name="adj1" fmla="val 67259"/>
              <a:gd name="adj2" fmla="val -8115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87280" y="2852640"/>
            <a:ext cx="28083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w that you are OFFICIALLY ready, lets explore our topic toda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MOLECULAR FORCE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all Expec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1. analyse the properties of commonly used chemical substances and their effects on human health and the environment, and propose ways to lessen their impac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2. investigate physical and chemical properties of elements and compounds, and use various methods to visually represent them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3. demonstrate an understanding of periodic trends in the periodic table and how elements combine to form chemical bon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re is our Lesson Sequenc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ext series of slides explores 5 lessons with supplemental material to assist you in Teaching the following topic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Molecular Compounds and Intermolecular Fo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10" descr="Structure_of_Wa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421000"/>
            <a:ext cx="40323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*Not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  Please review our Summary Handout along with the next few slides for a more detailed outline of our Lesson sequence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8" descr="Structure_of_Water"/>
          <p:cNvPicPr/>
          <p:nvPr/>
        </p:nvPicPr>
        <p:blipFill>
          <a:blip r:embed="rId1"/>
          <a:stretch/>
        </p:blipFill>
        <p:spPr>
          <a:xfrm>
            <a:off x="4643280" y="2421000"/>
            <a:ext cx="43214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1: Super Hero Bo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) Students given cards with specific molecule &amp; 3 Diagnostic Qs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see summary handouts for details)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) Milling to music to discuss their answ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 Students develop characters and create sk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uper Hero Covalent Bond Ma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&amp;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uper Hero Ionic Bond Woma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hat are your powers &amp; strengths?   What are your weaknesse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)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resentation of skits to the class and watch video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QqjcCvzWwww&amp;NR=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C:\Documents and Settings\pisanpet\Local Settings\Temporary Internet Files\Content.IE5\GBNYJVLT\MC900237863[1].wmf"/>
          <p:cNvPicPr/>
          <p:nvPr/>
        </p:nvPicPr>
        <p:blipFill>
          <a:blip r:embed="rId2"/>
          <a:stretch/>
        </p:blipFill>
        <p:spPr>
          <a:xfrm>
            <a:off x="6227640" y="2708280"/>
            <a:ext cx="1657440" cy="64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pisanpet\Local Settings\Temporary Internet Files\Content.IE5\P9OV6DIH\MC900433233[1].jpg"/>
          <p:cNvPicPr/>
          <p:nvPr/>
        </p:nvPicPr>
        <p:blipFill>
          <a:blip r:embed="rId3"/>
          <a:stretch/>
        </p:blipFill>
        <p:spPr>
          <a:xfrm>
            <a:off x="255600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nts and Settings\pisanpet\Local Settings\Temporary Internet Files\Content.IE5\P9OV6DIH\MC900383258[1].wmf"/>
          <p:cNvPicPr/>
          <p:nvPr/>
        </p:nvPicPr>
        <p:blipFill>
          <a:blip r:embed="rId4"/>
          <a:stretch/>
        </p:blipFill>
        <p:spPr>
          <a:xfrm>
            <a:off x="6443640" y="4221000"/>
            <a:ext cx="17985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8:51:42Z</dcterms:created>
  <dc:creator> </dc:creator>
  <dc:description/>
  <dc:language>en-US</dc:language>
  <cp:lastModifiedBy> </cp:lastModifiedBy>
  <dcterms:modified xsi:type="dcterms:W3CDTF">2011-07-14T04:35:02Z</dcterms:modified>
  <cp:revision>51</cp:revision>
  <dc:subject/>
  <dc:title>Molecular Compounds &amp; Intermolecular Forces</dc:title>
</cp:coreProperties>
</file>